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EAEE-FF77-43BB-9511-05E31A633E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25FE-2A20-402F-9C2B-2CE9A4919DF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04DF-CF97-442D-8819-BD4CAAC3797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8668-1E45-4452-A1FA-B5FCC1B6350A}"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A2EA-E59A-4933-AD29-8122B0DC8358}"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5022-8D24-45E4-AA93-AD0A209B9EB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C1A7-B332-46AB-A24A-35F63AB8D71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02BA-53BC-4213-B34C-E1E33F0F103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0D86-5DC9-4D94-B84F-593C5826303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284B-0FCE-493B-8D68-14347A51866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6653-D5D5-406E-9864-BF5003D1B7B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5F7A-D1C5-408F-BD6C-6F9C9E2082DC}"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6E9B-0FFE-4455-8DDA-B1F596A5826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FDFE-7E9D-4036-8041-89804F72D47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46A19-C3D7-4362-8041-5219610A9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F973C-B6B7-435A-8565-CA7DDFB0C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B3A4E-0114-4487-A583-48D3733ED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9A026-9CAA-4B74-A6EC-0C7917F2F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0E696-F68E-467A-868F-B1DB1C749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5CEFD-1281-47A6-9901-9C71EF9E5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D10B2-9312-4C42-B3AB-F132534CD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AB1FD-32EC-4101-9DE5-1DE6E1AF2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49D5A-9638-4105-A6B1-BB8301413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CDD4A-6CC2-4200-A4FC-5C3A98F7A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BA51A-7A69-4B6F-A98E-B329B912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91FD9-41C4-473A-8DC3-1F7B5E81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75D1C-4C3C-4F96-850E-8A41D2BFA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3B8C0-F158-4B15-976B-3E637615C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01866-3AEE-4CD2-862F-8CF9B1CF5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66D5A-8623-4B71-BE4E-A4FD015A7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1D58B-288B-4A27-9B16-4C6113367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D9165D-B356-46C2-82D9-69F3E4AD5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04D1A-BDCE-4C8E-BB18-725A80801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016C6-13A6-42C2-9820-F62188D91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0DB60-1FEA-4D76-89CA-1883383A4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9D8225-E706-4B00-8C79-44AB7D817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B019-D334-48A5-866F-6867457D2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F05C5-F1DE-412B-A866-1C422CED0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1D1C3-365A-4A3A-B066-C842C414B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AB9E0-3D48-4C16-AEB3-D069FFD11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DC34F-CC86-48D3-BDE1-83A4589E0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D6D3A-39FF-4C6D-9B96-A01EB5354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76251-D8CA-43E4-B21C-0C3FB0A78D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B9B34-3C79-44D1-B00C-CE69470F9C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32440E-0872-4745-98A4-A2B3B107CE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4A09F-B6EB-46AC-BD30-69BDAA693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FB764-3E3C-447B-AD24-9945FB704A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36A93-5036-45F1-A29C-62C073AA5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7F5B6-A9C1-454C-92B2-9143EC835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DF2D8-E6FA-425B-8F63-557CD8D3E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194076-1861-48B1-A3DC-AED1B0E95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B5353-2038-4174-AD0F-5FD85AA94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3B4B9-B9E3-4444-B35B-9A1E67F08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A0B21-EE29-4EDA-9B39-E3B69042A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E672C-2BE1-4676-8E6B-CE2B813F9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72DA01-47DC-48A9-A69B-DDCDB40C4B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ABE14-854F-4345-B251-92193557C8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9E4C5D-38D0-4A5C-BC59-72662E3EA3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343B-FE01-45A8-9CEF-67EE7B3AA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379F1B-5A17-49EA-B14F-D7DFA1CB3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5E1AA4-F09F-4832-A0C1-9FB71EDAD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C12479-C0C3-44BC-A99E-1B8C02BAA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1F3A1-99FA-443E-A651-BDB689F6F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5093E-65DF-4DFD-A126-A5D29D588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E1DB0-1BA7-47E7-AD46-B40F60DE1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EF5F8-7504-4C6C-A271-899DC45CA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FF0C8-1C2A-4AC4-9017-427261E25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4CAB4D-723E-4E87-90CD-35318BD137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4352AC-EC88-47D7-B002-71AE6551D1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83EB2-1E25-46E1-A2FC-631E1A525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82FC50-970D-4DF2-9C0D-C08A713BB4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FD58E1-EEA7-4977-8DAC-EBAD98589D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F82D2-B559-49E6-887D-3CB0C6F8E9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173C1-A55E-40EC-90DD-7C73DD03B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7407C-5CB9-4E6F-A994-50A3E40BC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430D8-D1E0-47B4-98FD-71A1F54FA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8401D-D60B-4651-BF28-19D98F67CF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4CB8C-6BCA-4A4A-A027-375926170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F38DD-4389-45EB-BAD0-CA28CEEF0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F1BE3-7763-473E-B2D1-88CE6E26C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5309B-5F02-4691-90B0-AEA55EC7E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EB598C-6971-4716-9E40-0A2180793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5E012-E2B2-4746-A5E0-405A01FC3B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14A669-EFE5-4904-B222-837143BB1E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96747F-7B93-4391-8AA5-155024FAB1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CB38CD-912D-4F91-BEC8-246D6F2D44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46B18-3E30-4EBF-BCB9-D391709634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603ED6-E9AD-4656-8911-8F8086BA5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9F8B0-95DF-4389-8CEF-7DB75AAD0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C74AD3-C563-4357-B5FC-247BCD1A3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D9E95-6E15-4AF6-A12E-58C199439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911B-BEE3-449F-B32C-B81B8FAD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285E4-57F6-4D56-B155-015912ADC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B6414-D256-457E-93A3-6F53C3894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09925-EB19-44A8-93C9-222197615D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CF599D-9F6A-4AF5-8EBF-C021AC4AE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0FF6B5-C1E2-45D8-BF4E-7F3DACE5AA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D8D7-4025-4997-8F73-312022810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24A5-0103-43A3-9637-427270DB052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105A-5918-4F57-95B3-2D8D33E5141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0A14-032D-4AD5-90D5-B9766B39B51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4C63-FAD5-4FCC-BC58-59301570B8C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683E-58D4-4BAA-B5C3-C1C00B7B175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D626-AE02-4883-B04D-B0B6B00CE42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0879-F738-43BB-96A9-E31BD873C0F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038120" y="304920"/>
            <a:ext cx="2057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ES</a:t>
            </a:r>
            <a:endParaRPr b="0" lang="en-US" sz="4000" spc="-1" strike="noStrike">
              <a:solidFill>
                <a:srgbClr val="c1eeff"/>
              </a:solidFill>
              <a:latin typeface="Consolas"/>
            </a:endParaRPr>
          </a:p>
        </p:txBody>
      </p:sp>
      <p:pic>
        <p:nvPicPr>
          <p:cNvPr id="395" name="Picture 2" descr=""/>
          <p:cNvPicPr/>
          <p:nvPr/>
        </p:nvPicPr>
        <p:blipFill>
          <a:blip r:embed="rId1"/>
          <a:stretch/>
        </p:blipFill>
        <p:spPr>
          <a:xfrm>
            <a:off x="1143000" y="1219320"/>
            <a:ext cx="6710400" cy="51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ow to start</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other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 Agai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Right Arrow 3"/>
          <p:cNvSpPr/>
          <p:nvPr/>
        </p:nvSpPr>
        <p:spPr>
          <a:xfrm>
            <a:off x="1066680" y="2514600"/>
            <a:ext cx="304920" cy="304920"/>
          </a:xfrm>
          <a:prstGeom prst="rightArrow">
            <a:avLst>
              <a:gd name="adj1" fmla="val 50000"/>
              <a:gd name="adj2" fmla="val 50000"/>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9" name="TextBox 4"/>
          <p:cNvSpPr/>
          <p:nvPr/>
        </p:nvSpPr>
        <p:spPr>
          <a:xfrm>
            <a:off x="2971800" y="502920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dentation groups statements together</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97">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97">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then…</a:t>
            </a:r>
            <a:endParaRPr b="0" lang="en-US" sz="40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ave then LOA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l your fun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ass Exercise</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fine a function(using the def keyword) called Lab1Progra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variable called name and place in it your name, e.g. name = “Maha”</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the statement: “My name is “ + name</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new variable called myNum, place the value 5.5 in it</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alculate the value of myNum*4, place the answer in the variable myNu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myNum+3</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lgorithms</a:t>
            </a:r>
            <a:endParaRPr b="0" lang="en-US" sz="4000" spc="-1" strike="noStrike">
              <a:solidFill>
                <a:srgbClr val="c1eeff"/>
              </a:solidFill>
              <a:latin typeface="Consolas"/>
            </a:endParaRPr>
          </a:p>
        </p:txBody>
      </p:sp>
      <p:sp>
        <p:nvSpPr>
          <p:cNvPr id="377" name=""/>
          <p:cNvSpPr txBox="1"/>
          <p:nvPr/>
        </p:nvSpPr>
        <p:spPr>
          <a:xfrm>
            <a:off x="914040" y="1784520"/>
            <a:ext cx="335268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1" lang="en-US" sz="3000" spc="-1" strike="noStrike">
                <a:solidFill>
                  <a:srgbClr val="ffff00"/>
                </a:solidFill>
                <a:latin typeface="Corbel"/>
              </a:rPr>
              <a:t>sequenc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f instructions</a:t>
            </a:r>
            <a:endParaRPr b="0" lang="en-US" sz="3000" spc="-1" strike="noStrike">
              <a:solidFill>
                <a:srgbClr val="ffffff"/>
              </a:solidFill>
              <a:latin typeface="Corbel"/>
            </a:endParaRPr>
          </a:p>
        </p:txBody>
      </p:sp>
      <p:sp>
        <p:nvSpPr>
          <p:cNvPr id="378" name="TextBox 3"/>
          <p:cNvSpPr/>
          <p:nvPr/>
        </p:nvSpPr>
        <p:spPr>
          <a:xfrm>
            <a:off x="4724280" y="1371600"/>
            <a:ext cx="38102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1. Preheat oven to 350 degrees F (175 degrees C). Grease and flour a 9x9 inch pan or line a muffin pan with paper liners.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2. In a medium bowl, cream together the sugar and butter. Beat in the eggs, one at a time, then stir in the vanilla. 3.Combine flour and baking powder, add to the creamed mixture and mix well. Finally stir in the milk until batter is smooth. Pour or spoon batter into the prepared pan.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4. Bake for 30 to 40 minutes in the preheated oven. Cake is done when it springs back to the touch.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379" name="Picture 2" descr=""/>
          <p:cNvPicPr/>
          <p:nvPr/>
        </p:nvPicPr>
        <p:blipFill>
          <a:blip r:embed="rId1"/>
          <a:stretch/>
        </p:blipFill>
        <p:spPr>
          <a:xfrm>
            <a:off x="5067360" y="1504800"/>
            <a:ext cx="3085920" cy="4210200"/>
          </a:xfrm>
          <a:prstGeom prst="rect">
            <a:avLst/>
          </a:prstGeom>
          <a:ln w="0">
            <a:noFill/>
          </a:ln>
        </p:spPr>
      </p:pic>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7" dur="500"/>
                                        <p:tgtEl>
                                          <p:spTgt spid="3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10" dur="500"/>
                                        <p:tgtEl>
                                          <p:spTgt spid="377">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par>
                                <p:cTn id="15" nodeType="withEffect" fill="hold" presetClass="entr" presetID="2" presetSubtype="4">
                                  <p:stCondLst>
                                    <p:cond delay="0"/>
                                  </p:stCondLst>
                                  <p:childTnLst>
                                    <p:set>
                                      <p:cBhvr>
                                        <p:cTn id="16" dur="1" fill="hold">
                                          <p:stCondLst>
                                            <p:cond delay="0"/>
                                          </p:stCondLst>
                                        </p:cTn>
                                        <p:tgtEl>
                                          <p:spTgt spid="378"/>
                                        </p:tgtEl>
                                        <p:attrNameLst>
                                          <p:attrName>style.visibility</p:attrName>
                                        </p:attrNameLst>
                                      </p:cBhvr>
                                      <p:to>
                                        <p:strVal val="visible"/>
                                      </p:to>
                                    </p:set>
                                    <p:anim calcmode="lin" valueType="num">
                                      <p:cBhvr additive="base">
                                        <p:cTn id="17" dur="500" fill="hold"/>
                                        <p:tgtEl>
                                          <p:spTgt spid="378"/>
                                        </p:tgtEl>
                                        <p:attrNameLst>
                                          <p:attrName>ppt_x</p:attrName>
                                        </p:attrNameLst>
                                      </p:cBhvr>
                                      <p:tavLst>
                                        <p:tav tm="0">
                                          <p:val>
                                            <p:strVal val="#ppt_x"/>
                                          </p:val>
                                        </p:tav>
                                        <p:tav tm="100000">
                                          <p:val>
                                            <p:strVal val="#ppt_x"/>
                                          </p:val>
                                        </p:tav>
                                      </p:tavLst>
                                    </p:anim>
                                    <p:anim calcmode="lin" valueType="num">
                                      <p:cBhvr additive="base">
                                        <p:cTn id="18" dur="500" fill="hold"/>
                                        <p:tgtEl>
                                          <p:spTgt spid="378"/>
                                        </p:tgtEl>
                                        <p:attrNameLst>
                                          <p:attrName>ppt_y</p:attrName>
                                        </p:attrNameLst>
                                      </p:cBhvr>
                                      <p:tavLst>
                                        <p:tav tm="0">
                                          <p:val>
                                            <p:strVal val="1+#ppt_h/2"/>
                                          </p:val>
                                        </p:tav>
                                        <p:tav tm="100000">
                                          <p:val>
                                            <p:strVal val="#ppt_y"/>
                                          </p:val>
                                        </p:tav>
                                      </p:tavLst>
                                    </p:anim>
                                  </p:childTnLst>
                                </p:cTn>
                              </p:par>
                              <p:par>
                                <p:cTn id="19" nodeType="withEffect" fill="hold" presetClass="entr" presetID="1">
                                  <p:stCondLst>
                                    <p:cond delay="0"/>
                                  </p:stCondLst>
                                  <p:childTnLst>
                                    <p:set>
                                      <p:cBhvr>
                                        <p:cTn id="20" dur="1" fill="hold">
                                          <p:stCondLst>
                                            <p:cond delay="0"/>
                                          </p:stCondLst>
                                        </p:cTn>
                                        <p:tgtEl>
                                          <p:spTgt spid="3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79"/>
                                        </p:tgtEl>
                                        <p:attrNameLst>
                                          <p:attrName>style.visibility</p:attrName>
                                        </p:attrNameLst>
                                      </p:cBhvr>
                                      <p:to>
                                        <p:strVal val="visible"/>
                                      </p:to>
                                    </p:set>
                                  </p:childTnLst>
                                </p:cTn>
                              </p:par>
                              <p:par>
                                <p:cTn id="25" nodeType="withEffect" fill="hold" presetClass="exit" presetID="1">
                                  <p:stCondLst>
                                    <p:cond delay="0"/>
                                  </p:stCondLst>
                                  <p:childTnLst>
                                    <p:set>
                                      <p:cBhvr>
                                        <p:cTn id="26" dur="1" fill="hold">
                                          <p:stCondLst>
                                            <p:cond delay="0"/>
                                          </p:stCondLst>
                                        </p:cTn>
                                        <p:tgtEl>
                                          <p:spTgt spid="3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09680" y="2819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uters are dumb</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guage</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int: its not English</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ython</a:t>
            </a:r>
            <a:endParaRPr b="0" lang="en-US" sz="4000" spc="-1" strike="noStrike">
              <a:solidFill>
                <a:srgbClr val="c1eeff"/>
              </a:solidFill>
              <a:latin typeface="Consolas"/>
            </a:endParaRPr>
          </a:p>
        </p:txBody>
      </p:sp>
      <p:pic>
        <p:nvPicPr>
          <p:cNvPr id="384" name="Picture 3" descr="C:\jes-3-1-windows.1\jes-3-1\images\JESsplash-v3.png"/>
          <p:cNvPicPr/>
          <p:nvPr/>
        </p:nvPicPr>
        <p:blipFill>
          <a:blip r:embed="rId1"/>
          <a:stretch/>
        </p:blipFill>
        <p:spPr>
          <a:xfrm>
            <a:off x="2590920" y="2666880"/>
            <a:ext cx="4165560" cy="3124440"/>
          </a:xfrm>
          <a:prstGeom prst="rect">
            <a:avLst/>
          </a:prstGeom>
          <a:ln w="0">
            <a:noFill/>
          </a:ln>
        </p:spPr>
      </p:pic>
      <p:sp>
        <p:nvSpPr>
          <p:cNvPr id="385" name="TextBox 5"/>
          <p:cNvSpPr/>
          <p:nvPr/>
        </p:nvSpPr>
        <p:spPr>
          <a:xfrm>
            <a:off x="3352680" y="1905120"/>
            <a:ext cx="2514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ython in Java</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1: “Hello World!”</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print</a:t>
            </a:r>
            <a:r>
              <a:rPr b="0" lang="en-US" sz="3000" spc="-1" strike="noStrike">
                <a:solidFill>
                  <a:srgbClr val="ffffff"/>
                </a:solidFill>
                <a:latin typeface="Corbel"/>
              </a:rPr>
              <a:t> “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2: Data Ty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ger</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2,10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oat</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878, 2.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Hello!123#$”</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3: Variables</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ore dat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Jython gets i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Hi”</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67</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2</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ick Test</a:t>
            </a:r>
            <a:endParaRPr b="0" lang="en-US" sz="4000" spc="-1" strike="noStrike">
              <a:solidFill>
                <a:srgbClr val="c1eeff"/>
              </a:solidFill>
              <a:latin typeface="Consolas"/>
            </a:endParaRPr>
          </a:p>
        </p:txBody>
      </p:sp>
      <p:sp>
        <p:nvSpPr>
          <p:cNvPr id="393" name=""/>
          <p:cNvSpPr txBox="1"/>
          <p:nvPr/>
        </p:nvSpPr>
        <p:spPr>
          <a:xfrm>
            <a:off x="914400" y="1447920"/>
            <a:ext cx="7772400" cy="49528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3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Hello” + “  “ + “World” + “!”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5/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print x*3</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51:38Z</dcterms:created>
  <dc:creator>mshouman</dc:creator>
  <dc:description/>
  <dc:language>en-US</dc:language>
  <cp:lastModifiedBy>mshouman</cp:lastModifiedBy>
  <dcterms:modified xsi:type="dcterms:W3CDTF">2009-03-04T20:47:49Z</dcterms:modified>
  <cp:revision>56</cp:revision>
  <dc:subject/>
  <dc:title>Programming</dc:title>
</cp:coreProperties>
</file>